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578-7DAF-484B-91A8-9DDE186F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A86-F3B5-4D10-92A7-06E4DEE0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08C52-BB88-4C1F-A897-C338F6B6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7F7CE-F399-41BE-9A84-EBCAD379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E532C-C172-4BCA-B784-9CD61B51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B5AC9-1625-493A-94BE-B1D376CC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5DB84-1AA3-408D-AD28-F93F4B64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45B5D-80C7-4B5B-B1E3-1BEF8820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50312-4440-447B-B7C7-A4A9DBF8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884AF-C64F-4B5B-AAF0-71315B2F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00544-2755-4B71-A7E2-A5C143F5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6C2-6F2D-42D3-9433-B131582E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9EB-3009-4AFF-BDA7-5F6E7B4C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54A-7920-4909-BCF4-61FDEA68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5FB-4778-4604-9C68-4E65983D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8DD4F-DB18-4B2C-9152-962650D9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655FE-C9EC-49BD-9722-9A0EC345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A6F450-4FD0-44DC-80A8-8572EDB5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924-0223-4FE4-A3CD-CD7BEE2B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C5A81-ADF2-4813-B820-1CD5DAF6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3A3B0-FAFA-4CF8-ADB2-0DFBE52D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658FC-547A-4BCD-BAB5-9A12C493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7A155-7BA2-4180-9644-64542952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7BE73-65A4-4BCA-B76F-BECBD87A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E351F-ECB1-432C-8643-9F7DFBEB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12E82-F8C1-4690-959A-C79E6418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F5F255-7852-4460-A066-4CEABDE5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98E35-4822-4342-8592-6BF1F482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594B59-37B9-4257-ACCE-8E0CC72F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B9A-F7D3-4E21-9796-EF18A2D1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8767AA-8C0E-428C-BC2D-B7E16B5F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E5CA7B-99C9-4A91-85E0-AD7095C8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575F7D-9004-4032-8A51-C9ED5185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6FBE8E-663E-4EC5-8EFA-200D8C57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05F3C6-004C-4906-AB50-26D80D08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4C5C26-739C-4B1F-83A9-8A676EE4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210F91-0251-4894-A9CC-54B19FCC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DA25A6-7AEA-4656-AC3E-D6DC7007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832727-A019-42C9-92E2-62C8AA1A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0F500E-45C6-46AE-A180-76788366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372-021E-4D22-999F-A36E38D3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FE6325-E836-4F79-8090-68B00D49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B5F09E-5D14-4795-A09A-AB94B119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C8BDF0-B784-488C-90FB-CCD4FDCA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BC0DB6-F352-455F-B77D-1446A244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465B0D-9F6E-49A4-97AF-F31C5932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DE82C1-AA28-4277-8B21-BBD4309B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966D82-B327-4505-B610-FC8C5325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5D3052-A9BE-47CE-BEC3-CE4FAA16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D94362-53FE-46F8-9BFA-E9B2907D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DAC780-1EA0-4981-A6C2-1B6AD937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E37-5A89-4619-8856-14EF5CC4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CA889-4648-4883-B4CC-8AD9003A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5F369E-3916-414A-9904-E7C1077D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81490-8C45-4D83-8333-A6DB765A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FEFF14-274F-470D-BA11-6DE64807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4FF812-3E98-462F-8635-E09F184A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3236A8-D0B1-4ACE-8F5F-658954FE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4FD7E6-D61D-4E6D-AAC8-619B38AA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25248F-2775-45C2-AF7F-0C7F5B20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9DAE04-3B6C-47AD-BD95-444AF791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897E24-951F-4558-A1F0-378BCF0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095-367F-4EE5-AF12-0872DCC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899D29-7F79-4D39-8A20-91B4A32F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67769C-672A-4E8B-831F-A0BF8D8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811ED2-0EB0-48CD-912C-8D14B0C0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7BEA50-EF94-4E4B-B845-7E3CAC95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11CB82-9A86-49B5-B031-6DDB0F2C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4CEF26-0143-4148-9137-D0237959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908311-DCC6-4534-BE57-F010D909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5C6460-3065-47CD-BAEC-04D083D2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2C829D-A8A2-4CEA-BD5F-187DD08C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8372DB-0172-403F-8D0A-D85DCC16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EDA-CC62-4703-9DD1-31162F8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A3DEC4-5D22-4526-902B-CE6B38EE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C4A42E-D00E-4522-AE4C-C7EE1258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2B610E-9C85-485B-8D86-6FDAA592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1E4617-0108-4B03-8019-E3DA888A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7C6CF8-C2C8-45C7-B2AE-E01B9B0D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5A8154-421A-4D0F-AC29-9EC41A52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B22A97-D0EB-4229-BAFF-88758E61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CF40C-C14A-4BED-94ED-80CD91E4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FFD13-4AD6-4773-9E79-0B0C70C2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8D04D-23B9-4E87-B1B5-644F22AD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8B3DF-E698-452F-8D12-5238498C36C0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3F469-0430-4B19-A4D5-1B1BF395F4D2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0148E-6F82-41DC-BF2F-5D9669F1E2F5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B6783-CB2F-471A-8171-35B0648C162A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D787B-2A6B-4AB0-AF55-73214A36905E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FEC77-95E3-4A95-8BD8-8AD16E77583E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5844B-E787-44D8-A5B8-D9439B55EE6A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373C4-4FA8-495E-AE9D-ACF9733DE317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19C2A-55E6-4E04-AB60-EB1DB5A58DEC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84A71-95C6-48E0-9431-4A174B7DF167}" type="slidenum">
              <a:rPr b="0" lang="en-US" sz="1200" spc="-1" strike="noStrike">
                <a:solidFill>
                  <a:srgbClr val="19443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BA5D0-9BBE-4661-8795-F63C1E62588D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18549-0A84-46A0-94BE-5D291B03B62E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6BCE0-FEE4-4D91-B76D-EE0FE6B309A3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EF104-7B50-4A6E-B07D-3F4E0932C8C8}" type="slidenum">
              <a:rPr b="0" lang="en-US" sz="1200" spc="-1" strike="noStrike">
                <a:solidFill>
                  <a:srgbClr val="19443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AB9FE-9A9F-49B2-B9F1-70840F5A6542}" type="datetime">
              <a:rPr b="0" lang="en-US" sz="1200" spc="-1" strike="noStrike">
                <a:solidFill>
                  <a:srgbClr val="ffffff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9DDF9-EC00-4D1B-B0F9-772AF2807CF3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4431"/>
                </a:solidFill>
                <a:latin typeface="Book Antiqua"/>
              </a:rPr>
              <a:t>Do Now – Write down the date, objective, and the question below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Book Antiqua"/>
              </a:rPr>
              <a:t>What happens if plants don’t get any sunlight?</a:t>
            </a:r>
            <a:endParaRPr b="0" lang="en-US" sz="5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1728720"/>
            <a:ext cx="88898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5100" spc="-1" strike="noStrike">
                <a:solidFill>
                  <a:srgbClr val="ffffff"/>
                </a:solidFill>
                <a:latin typeface="Book Antiqua"/>
              </a:rPr>
              <a:t>The arctic fox is an incredibly tough animal that can survive cold Arctic temperatures in the treeless lands where it makes its home.”  Treeless lands refer to the fox’s ____________.</a:t>
            </a:r>
            <a:endParaRPr b="0" lang="en-US" sz="5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1728720"/>
            <a:ext cx="88898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Female arctic foxes give birth each spring to a large litter of up to 14 pups.” A fox’s offspring are called </a:t>
            </a:r>
            <a:r>
              <a:rPr b="0" lang="en-US" sz="6100" spc="-1" strike="noStrike">
                <a:solidFill>
                  <a:srgbClr val="ffffff"/>
                </a:solidFill>
                <a:latin typeface="Book Antiqua"/>
              </a:rPr>
              <a:t> ____________.</a:t>
            </a:r>
            <a:endParaRPr b="0" lang="en-US" sz="6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94431"/>
                </a:solidFill>
                <a:latin typeface="Book Antiqua"/>
              </a:rPr>
              <a:t>Remember to put your Name, Date, and Class Period at the top of your paper</a:t>
            </a:r>
            <a:endParaRPr b="0" lang="en-US" sz="3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 u="sng">
                <a:solidFill>
                  <a:srgbClr val="ffffff"/>
                </a:solidFill>
                <a:uFillTx/>
                <a:latin typeface="Book Antiqua"/>
              </a:rPr>
              <a:t>1.3 Cell Processes: Class Notes</a:t>
            </a:r>
            <a:endParaRPr b="0" lang="en-US" sz="6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Organisms and Energy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2680" y="1963440"/>
            <a:ext cx="832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 u="sng">
                <a:solidFill>
                  <a:srgbClr val="ffffff"/>
                </a:solidFill>
                <a:uFillTx/>
                <a:latin typeface="Book Antiqua"/>
              </a:rPr>
              <a:t>There are three ways organisms can get their food and the energy they need to survive. </a:t>
            </a:r>
            <a:endParaRPr b="0" lang="en-US" sz="5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Organisms and Energy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2680" y="1963440"/>
            <a:ext cx="832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Energy is transferred from the sun to plants to animal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ff"/>
                </a:solidFill>
                <a:latin typeface="Book Antiqua"/>
              </a:rPr>
              <a:t>How is energy transferred?</a:t>
            </a:r>
            <a:endParaRPr b="0" lang="en-US" sz="7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roduc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2680" y="1963440"/>
            <a:ext cx="832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Producers can make their own food. Producers are also called autotroph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roduc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1527120"/>
            <a:ext cx="91440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Plants are producers.  They make their own food from sunlight. This process is called photosynthesis. 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Produc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1527120"/>
            <a:ext cx="91440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In photosynthesis, plants use light energy to make sugar, which they use for food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.3 Cell Process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How does a producer get its food?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What is another word for producer?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What is photosynthesis?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7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onsum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2070000"/>
            <a:ext cx="9144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Consumers cannot make their own food.  Consumers are also called heterotroph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onsum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2070000"/>
            <a:ext cx="9144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Consumers must get their food by eating other organism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onsum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2070000"/>
            <a:ext cx="9144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When a consumer eats another organism, it gets sugars that were stored in that organism. 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onsum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2070000"/>
            <a:ext cx="91440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ook Antiqua"/>
              </a:rPr>
              <a:t>Cellular respiration is the process in which the organism breaks down sugar to release stored chemical energy. 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Can consumers make their own food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How do consumers get energy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Agenda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o Now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omework Check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view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Not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actic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view and Quiz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Journa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at is another name for a consumer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What is cellular respiration?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Skip a line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Decomposer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ffffff"/>
                </a:solidFill>
                <a:uFillTx/>
                <a:latin typeface="Book Antiqua"/>
              </a:rPr>
              <a:t>Decomposers like fungi get their energy by consuming dead organisms.</a:t>
            </a: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Let’s Practice…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Book Antiqua"/>
              </a:rPr>
              <a:t>What is a decomposer?</a:t>
            </a:r>
            <a:endParaRPr b="0" lang="en-US" sz="6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ategory Gam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Independent Practic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Book Antiqua"/>
              </a:rPr>
              <a:t>Silently complete the worksheet.</a:t>
            </a:r>
            <a:endParaRPr b="0" lang="en-US" sz="5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FAQ about your Organism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does it live (geographically)? What is its habita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formation about its offspring (name, #, frequency etc.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How does it grow and develop (size, etc.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at does it eat?  Is it a producer or consumer?  Omnivore, herbivore, or carnivor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at adaptations does it have to surviv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un factd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Quiz Review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Quiz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Journal Reflection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Journal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Homework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ook Antiqua"/>
              </a:rPr>
              <a:t>Put your homework in the homework section of your binder.  Look at your paper and check your answers as we review them.  Put a √ for correct and an x for incorrect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Book Antiqua"/>
              </a:rPr>
              <a:t>What do organisms need to survive?</a:t>
            </a:r>
            <a:endParaRPr b="0" lang="en-US" sz="6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Book Antiqua"/>
              </a:rPr>
              <a:t>What is a habitat?</a:t>
            </a:r>
            <a:endParaRPr b="0" lang="en-US" sz="6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Book Antiqua"/>
              </a:rPr>
              <a:t>What is homeostasis?</a:t>
            </a:r>
            <a:endParaRPr b="0" lang="en-US" sz="6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Review 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Book Antiqua"/>
              </a:rPr>
              <a:t>What is one example of homeostasis?</a:t>
            </a:r>
            <a:endParaRPr b="0" lang="en-US" sz="6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2:23:36Z</dcterms:created>
  <dc:creator>Caroline Roth</dc:creator>
  <dc:description/>
  <dc:language>en-US</dc:language>
  <cp:lastModifiedBy>Caroline Roth</cp:lastModifiedBy>
  <dcterms:modified xsi:type="dcterms:W3CDTF">2011-05-23T04:26:01Z</dcterms:modified>
  <cp:revision>13</cp:revision>
  <dc:subject/>
  <dc:title>Slide 1</dc:title>
</cp:coreProperties>
</file>